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516-B5B5-4FE0-8497-E1C415AF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79A-0975-42DA-BBA4-169BB029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48C-4D92-4FA7-A851-7B0A19B3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047-DE51-45BA-B2C3-1DD2CAEA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D19-AFC4-4FB6-AF37-F55F6E66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62F-4E5D-451F-9F9D-2E51EEAF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211-CA0D-42CE-B5DB-654F68DC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241-7C48-468F-82B8-A629B9A2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E09-73A3-4E95-8DFF-C4DFA277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5C3-59E4-4FCC-9062-4081EFE3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ACC-8545-4DB0-A385-5CC27E0C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546-BC1B-4742-AD82-E73FB0E9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569B-B038-4161-996C-8DD6E9705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1066680"/>
            <a:ext cx="5486400" cy="2667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ight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286000" cy="170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916600"/>
            <a:ext cx="1257480" cy="94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4038480"/>
            <a:ext cx="32004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ected ant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: Erica Martinez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3880" y="0"/>
            <a:ext cx="2133720" cy="21337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523880" cy="16002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733920"/>
            <a:ext cx="144792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1066680"/>
            <a:ext cx="152388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666880"/>
            <a:ext cx="18288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0"/>
            <a:ext cx="2057400" cy="1371600"/>
          </a:xfrm>
          <a:prstGeom prst="rect">
            <a:avLst/>
          </a:prstGeom>
          <a:solidFill>
            <a:srgbClr val="b725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0"/>
            <a:ext cx="4800600" cy="2819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038480"/>
            <a:ext cx="5867280" cy="2819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514600"/>
            <a:ext cx="1752840" cy="1523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838080"/>
            <a:ext cx="2133720" cy="2133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1523880"/>
            <a:ext cx="2971800" cy="1143000"/>
          </a:xfrm>
          <a:prstGeom prst="rect">
            <a:avLst/>
          </a:prstGeom>
          <a:solidFill>
            <a:srgbClr val="e857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429000"/>
            <a:ext cx="1904760" cy="342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2819520"/>
            <a:ext cx="2133720" cy="320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5257800"/>
            <a:ext cx="1371600" cy="160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86000"/>
            <a:ext cx="2666880" cy="2057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0"/>
            <a:ext cx="1295280" cy="1828800"/>
          </a:xfrm>
          <a:prstGeom prst="rect">
            <a:avLst/>
          </a:prstGeom>
          <a:solidFill>
            <a:srgbClr val="91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838080"/>
            <a:ext cx="2362320" cy="243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52280" y="5486400"/>
            <a:ext cx="2057400" cy="1371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33920"/>
            <a:ext cx="152388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22096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486400"/>
            <a:ext cx="1143000" cy="1371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838080"/>
            <a:ext cx="152640" cy="7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6248520" cy="571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46400" y="174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1600200"/>
            <a:ext cx="327672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Fireflie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leen Fisher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 the soft dark nigh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en the wind is stil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bullfrogs croak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 the bottom of the hill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fireflies reach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side their coat pock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screw little light bulb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o their sock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 they can f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rough the night and pla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thout bumping their head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 losing their way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12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07800"/>
            <a:ext cx="350532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n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Poem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</a:rPr>
              <a:t>Jacqui Thorn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ray begins to fad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 color creeps from leaf to lim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ght is slowly seeping u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m beneath the earth's curved r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ky blue strengthens slow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azed with hues of orange an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wly as the earth revolv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n lifts up it'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ors shimmer in th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shapes begin to unve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rees and flowers separ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the dawn light rosy and p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n climbs higher in the s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's light shimmering and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l things now are clearly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new day has been 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066680" y="-1440"/>
            <a:ext cx="1021068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0"/>
            <a:ext cx="2133720" cy="57279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nset in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Janine M. J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Sunset in Heav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w absolutely astonishing, It must be, to see a sunset in heaven. The creamy clouds reflecting off the, Blinding sun. On some the sky is probably painted, A bloody pomegranate scarlet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ile other days are candy colored orange. Each sunset is a little different though. Some have a little more violet, Or less orange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king them have a strong golden hue. And there are some that fade quickly, As if the sky is one large embe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se are probably lovely. But then there are those that just, Try to keep daylight going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ones that a person might wish, Never fad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y are probably far too beautiful for anyone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escribe. Once the sky turns to blue and black, It is all over. Sun rises, Do not seem as if they would, Be as phenomenal as a set. It would be the type of happening, That even the wildest of individuals, Pay attention to. Luckily in heaven, The sunsets are only fore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0"/>
            <a:ext cx="388620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Woods at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Annette Bigger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ld geese fly with the moon on their wing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a nightingale sits on a branch as it sing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 is peaceful in the still of night, and the moon is shining very bright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re's only a rustle of a breeze in the tree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to night for sure there will be a freeze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the air is crisp, so crisp it will snap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 the slightest sound, rustle or rap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 owl skims slowly o'er the treetop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slowly circles 'round a tree and stop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sits and surveys the forest floor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ptivated by mystery and woodsy lore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at night in the forest there's gamey in the air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the wild fox now creeps out of its lair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yaps and the stillness is split with a knife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Yet all else continues with no conflict or str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2160" y="304920"/>
            <a:ext cx="2073240" cy="259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5330880"/>
            <a:ext cx="1905120" cy="1527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1971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9601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990720"/>
            <a:ext cx="297180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33"/>
                </a:solidFill>
                <a:uFillTx/>
                <a:latin typeface="Times New Roman"/>
              </a:rPr>
              <a:t>The Star</a:t>
            </a: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33"/>
                </a:solidFill>
                <a:latin typeface="Times New Roman"/>
              </a:rPr>
              <a:t>by Jane Taylor</a:t>
            </a: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little star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How I wonder what you are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Up above the world so high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Like a diamond in the sk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When the blazing sun is se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nd the grass with dew is we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en you show your little ligh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all the nigh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en the traveler in the dark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anks you for your tiny spark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He could not see where to go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If you did not twinkle s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In the dark blue sky you keep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nd often through my curtains peep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For you never shut your eye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ill the sun is in the sk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s your bright and tiny spark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Lights the traveler in the dark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ough I know not what you are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little 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3c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391520" y="685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514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907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45720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533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943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41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533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01000" y="5867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763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15400" y="2209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5638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3657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209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0120" y="2971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1600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4267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838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6172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3581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6172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28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447920"/>
            <a:ext cx="2590920" cy="419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666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45720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53341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124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1600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514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24440" y="-95400"/>
            <a:ext cx="1807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76320"/>
            <a:ext cx="2422440" cy="65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9933ff"/>
                </a:solidFill>
                <a:uFillTx/>
                <a:latin typeface="Times New Roman"/>
              </a:rPr>
              <a:t>Moonlight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 a pale phantom with a lamp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cends some ruined haunted stair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o glides the moon along the damp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Mysterious chambers of the ai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Now hidden in cloud, and now reveale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 if this phantom, full of pain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ere by the crumbling walls conceale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nd at the windows seen aga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Until at last, serene and proud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n all the splendour of her light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he walks the terraces of clou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upreme as Empress of the Nigh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 look, but recognize no more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bjects familiar to my view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very pathway to my door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s an enchanted aven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ll things are changed. One mass of shade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elm-trees drop their curtains down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By palace, park, and colonnade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 walk as in a foreign tow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very ground beneath my fee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s clothed with a diviner air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hite marble paves the silent stree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nd glimmers in the empty squa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llusion! Underneath there lies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common life of everyday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nly the spirit glorifies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ith its own tints the sober gre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n vain we look, in vain uplif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ur eyes to heaven, if we are blind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e see but what we have the gif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f seeing; what we bring we fi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933ff"/>
                </a:solidFill>
                <a:latin typeface="Times New Roman"/>
              </a:rPr>
              <a:t>By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Henry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Wadsworth Longfe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00200" y="0"/>
            <a:ext cx="5715000" cy="65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ccff33"/>
                </a:solidFill>
                <a:uFillTx/>
                <a:latin typeface="Times New Roman"/>
              </a:rPr>
              <a:t>Night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© Marissa Martinez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ll those night time creature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 elements around you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he crickets sing,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he owls hoot,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m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Look up now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What do you see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How do you feel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 full moon at its brightes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 stars right beside it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m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m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s you lay on the ground next to your soulmate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your soulmates steady heart be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your soulmates steady breathing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ll those night time creature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 elements around you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 is the best time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 is the best time to listen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heart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soul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the world around you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see the moon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see the star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soulmates breathing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Do you hear your soulmates heart be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Do you hear the elements around you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1600200" cy="119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2860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9b"/>
            </a:gs>
            <a:gs pos="50000">
              <a:srgbClr val="a2ecf4"/>
            </a:gs>
            <a:gs pos="100000">
              <a:srgbClr val="e5ff9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7960" y="-47520"/>
            <a:ext cx="271656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On Dreaming</a:t>
            </a:r>
            <a:br>
              <a:rPr sz="14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     When slumber seals our weary eye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busy fancy wakeful keeps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scenes which then before us rise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Prove something in us never sleeps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s in another world we see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 new creation of our own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ll appears real, though a drea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nd all familiar, though unknown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Sometimes the mind beholds again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past day's business in review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Resumes the pleasure or the pain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nd sometimes all we meet is new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schemes we form, what pains we take!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fight, we run, we fly, we fall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But all is ended when we wake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scarcely then a trace recall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But though our dreams are often wild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Like clouds before the driving storm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Yet some important may be styl'd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Sent to admonish or inform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mighty agents have acces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friends from heav'n, or foes from hell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ur minds to comfort or distres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en we are sleeping, who can tell?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ne thing, at least, and 'tis enough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learn from this surprising fact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ur dreams afford sufficient proof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soul, without the flesh, can act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is life, which mortals so estee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at many choose it for their all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y will confess, was but a dream,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en 'waken'd by death's awful call.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John Newton</a:t>
            </a: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590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89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788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877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8055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966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8055000" y="52261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8055000" y="4410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055000" y="37339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8055000" y="29178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8055000" y="21114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8055000" y="12952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7623000" y="0"/>
            <a:ext cx="1089360" cy="816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6534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5445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4356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8"/>
          <a:stretch/>
        </p:blipFill>
        <p:spPr>
          <a:xfrm>
            <a:off x="3267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9"/>
          <a:stretch/>
        </p:blipFill>
        <p:spPr>
          <a:xfrm>
            <a:off x="2178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0"/>
          <a:stretch/>
        </p:blipFill>
        <p:spPr>
          <a:xfrm>
            <a:off x="0" y="1962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1"/>
          <a:stretch/>
        </p:blipFill>
        <p:spPr>
          <a:xfrm>
            <a:off x="0" y="277812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2"/>
          <a:stretch/>
        </p:blipFill>
        <p:spPr>
          <a:xfrm>
            <a:off x="0" y="359424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3"/>
          <a:stretch/>
        </p:blipFill>
        <p:spPr>
          <a:xfrm>
            <a:off x="0" y="4410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4"/>
          <a:stretch/>
        </p:blipFill>
        <p:spPr>
          <a:xfrm>
            <a:off x="0" y="52261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5"/>
          <a:stretch/>
        </p:blipFill>
        <p:spPr>
          <a:xfrm>
            <a:off x="431640" y="6041880"/>
            <a:ext cx="1089360" cy="816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6"/>
          <a:stretch/>
        </p:blipFill>
        <p:spPr>
          <a:xfrm>
            <a:off x="0" y="114624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7"/>
          <a:stretch/>
        </p:blipFill>
        <p:spPr>
          <a:xfrm>
            <a:off x="1521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8"/>
          <a:stretch/>
        </p:blipFill>
        <p:spPr>
          <a:xfrm>
            <a:off x="2610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9"/>
          <a:stretch/>
        </p:blipFill>
        <p:spPr>
          <a:xfrm>
            <a:off x="3699000" y="6041880"/>
            <a:ext cx="1089000" cy="816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24080" y="990720"/>
            <a:ext cx="275292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Moonlight Nights</a:t>
            </a:r>
            <a:br>
              <a:rPr sz="13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y Bernard How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clear sky seems to glow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ith the moon so big and bright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ighting up our hill side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ith an iridescence light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shadows hide amongst the tree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hilst I listen to the gentle breeze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night time opera in front of m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magical moment under a grand marquee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or now I know that no man aliv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uld ever produce this kind of splendor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e in which a heart beats faster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e which makes my heart surrender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beauty within our heavens light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lls me with a passion a deep delight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akes sparkle from shore to shor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beauty no one could ever ignore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How can darkness have such a glow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warmth so bold to comfort our soul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beauty from heaven to help us believ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knowledge that can, make us all who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7400" y="685800"/>
            <a:ext cx="5867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57200"/>
            <a:ext cx="7086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781680" cy="6248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5d3e5"/>
                </a:solidFill>
                <a:uFillTx/>
                <a:latin typeface="Times New Roman"/>
              </a:rPr>
              <a:t>Sha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5d3e5"/>
                </a:solidFill>
                <a:uFillTx/>
                <a:latin typeface="Times New Roman"/>
              </a:rPr>
              <a:t>©Adam Rulli-Gibbs 2001 -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If it won't leave me alone it's no surprise that I'm shri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but to no avail, my shadow follows me stil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When sunlight reveals my frown, that only fills it with gle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Yet on a moonlit night it never fails to locate 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Until my shadow appears the only thing that is tr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appearing in a flash on any wall within vie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But increasingly I realize that it is pleasing after 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to have such a constant companion, then I re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that the only times my shadow has left me al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have been the darkest times that I have kn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And so it fills me with delight to have my shadow abo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for it completes my world, without a doub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12723"/>
          <a:stretch/>
        </p:blipFill>
        <p:spPr>
          <a:xfrm>
            <a:off x="6172200" y="4114800"/>
            <a:ext cx="2333520" cy="2527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0" t="31775" r="27770" b="0"/>
          <a:stretch/>
        </p:blipFill>
        <p:spPr>
          <a:xfrm>
            <a:off x="5486400" y="73080"/>
            <a:ext cx="20574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22:32:47Z</dcterms:created>
  <dc:creator>A</dc:creator>
  <dc:description/>
  <dc:language>en-US</dc:language>
  <cp:lastModifiedBy>A</cp:lastModifiedBy>
  <dcterms:modified xsi:type="dcterms:W3CDTF">2009-05-12T02:37:31Z</dcterms:modified>
  <cp:revision>2</cp:revision>
  <dc:subject/>
  <dc:title>No Slide Title</dc:title>
</cp:coreProperties>
</file>